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12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0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12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492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33cc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 AS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6440" y="685800"/>
            <a:ext cx="83311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83311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90836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Palatino Linotype"/>
              </a:rPr>
              <a:t>Click to edit the title text format</a:t>
            </a:r>
            <a:endParaRPr b="0" i="1" lang="en-US" sz="3600" spc="-1" strike="noStrike">
              <a:solidFill>
                <a:srgbClr val="cc6600"/>
              </a:solidFill>
              <a:latin typeface="Palatino Linotype"/>
            </a:endParaRPr>
          </a:p>
        </p:txBody>
      </p:sp>
      <p:sp>
        <p:nvSpPr>
          <p:cNvPr id="43" name=""/>
          <p:cNvSpPr/>
          <p:nvPr/>
        </p:nvSpPr>
        <p:spPr>
          <a:xfrm>
            <a:off x="1080" y="663084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©</a:t>
            </a:r>
            <a:r>
              <a:rPr b="0" lang="nl-NL" sz="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AST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5849640" cy="433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2205000"/>
            <a:ext cx="655344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2349360"/>
            <a:ext cx="1079280" cy="439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6600"/>
                </a:solidFill>
                <a:latin typeface="Palatino Linotype"/>
              </a:rPr>
              <a:t>LOFAR Roll Out</a:t>
            </a:r>
            <a:br>
              <a:rPr sz="3200"/>
            </a:br>
            <a:r>
              <a:rPr b="0" i="1" lang="en-US" sz="1800" spc="-1" strike="noStrike">
                <a:solidFill>
                  <a:srgbClr val="ff6600"/>
                </a:solidFill>
                <a:latin typeface="Palatino Linotype"/>
              </a:rPr>
              <a:t>André W. Gunst</a:t>
            </a:r>
            <a:endParaRPr b="0" i="1" lang="en-US" sz="1800" spc="-1" strike="noStrike">
              <a:solidFill>
                <a:srgbClr val="cc6600"/>
              </a:solidFill>
              <a:latin typeface="Palatino Linotype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0792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05120" y="189000"/>
            <a:ext cx="362736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Core Stations disconnected</a:t>
            </a: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S021, 30, 32, 401, 002, 003, 004, 005, 006 en 007 disconnected for OTDR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HBA Gain Stability (Cold Start)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week: ~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: ~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4581360"/>
            <a:ext cx="7772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: ~ 1000 improvement in one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Down Week (30 Nov. – 4 Dec. 2009)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mix of old and new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lioff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ing ou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pmaster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pmast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i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s0xx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ortal.lofar.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08:02:06Z</dcterms:created>
  <dc:creator>Andre Gunst</dc:creator>
  <dc:description/>
  <dc:language>en-US</dc:language>
  <cp:lastModifiedBy>Andre Gunst</cp:lastModifiedBy>
  <dcterms:modified xsi:type="dcterms:W3CDTF">2009-11-18T10:16:05Z</dcterms:modified>
  <cp:revision>839</cp:revision>
  <dc:subject/>
  <dc:title>PowerPoint Presentation</dc:title>
</cp:coreProperties>
</file>